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19641"/>
        <c:axId val="32345636"/>
      </c:barChart>
      <c:catAx>
        <c:axId val="264196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45636"/>
        <c:crosses val="autoZero"/>
        <c:auto val="1"/>
        <c:lblAlgn val="ctr"/>
        <c:lblOffset val="100"/>
        <c:noMultiLvlLbl val="0"/>
      </c:catAx>
      <c:valAx>
        <c:axId val="323456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196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67E-F393-4511-BCB7-326E9809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F46-A21E-451E-89F1-521B5180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5630-8D36-48A9-AB02-D292BAFA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8917-328A-4C27-9F36-90BF08E5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8D8C-5E3A-4DC9-9804-CE4F8CFF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798-13CA-4E7A-A632-AAD168AC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7BD7-ED6A-4CF6-B01B-32B053C0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28AD-7FC5-4633-8D39-CB7B9ABF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0068-D388-497F-A396-99A81012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D79-393E-4119-A21F-EA50FCD3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397-2201-493D-8797-BAD29E86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9394-D95E-41B0-859B-0519433A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E97DD-EA41-477B-B440-F4FE1BECEF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