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23032"/>
        <c:axId val="77075820"/>
      </c:barChart>
      <c:catAx>
        <c:axId val="73023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75820"/>
        <c:crosses val="autoZero"/>
        <c:auto val="1"/>
        <c:lblAlgn val="ctr"/>
        <c:lblOffset val="100"/>
        <c:noMultiLvlLbl val="0"/>
      </c:catAx>
      <c:valAx>
        <c:axId val="77075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23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9BC-D874-454C-8A4A-D4020450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F74-55E4-40D1-B151-29F23BB6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E30-6F59-499E-B904-3454CEB5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544-ADA4-4DBD-AFA5-174ADBA4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AB5-E3B7-4457-8564-88445A5B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984-F6FC-449E-B00F-7B3F70D6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D6E-852F-4284-95AC-25017260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AAF-8FD0-402F-AC4C-03A1505A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9AA-3877-402B-AA98-55AA1A7D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AAB-16A3-446F-AA6F-3E1B80B3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249-9AB9-40C1-8A86-7418D2B0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A33-238C-452D-9937-8C175905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911FA-0B47-4A19-AEB2-CB19435ECC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