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68720"/>
        <c:axId val="15249306"/>
      </c:barChart>
      <c:catAx>
        <c:axId val="59968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49306"/>
        <c:crosses val="autoZero"/>
        <c:auto val="1"/>
        <c:lblAlgn val="ctr"/>
        <c:lblOffset val="100"/>
        <c:noMultiLvlLbl val="0"/>
      </c:catAx>
      <c:valAx>
        <c:axId val="15249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68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436-9DF2-490F-BD5A-9F92A2F7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69D-4443-49E3-B890-94BBF18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C62-C55D-4BE0-B35C-E947E966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7DB-6FC6-42C7-B9F0-75BB9059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2CB-B245-43C9-AAAE-4B0A0AC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9B6-CF25-423C-B75C-857F95D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1B3-722F-46F5-87EB-D43D60A2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37E-F528-4448-B101-5C84E9D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373-616A-4081-B029-766B0199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BD5-C55F-47F4-8FBA-8A3AFC2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9EF-4F99-4605-B2EC-31E569A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F53-8412-4E29-9C49-C0603FA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1B794-D4B4-4660-8D1F-8A584423A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